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537-64F2-47EF-96B5-955CC2DC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DA6-AC2D-46C6-9F31-6DBD4E53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3F4-F3E2-4859-8E7D-36245621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B2C-16B1-4782-A78A-92E095B4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4CF-A5F0-43E0-A904-16A1710F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A733-B3EA-4310-9CD7-BFD199A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491-F7D6-4301-AA73-2D6B218F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0693-3C4E-465B-9EAB-729857E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0321-96C0-4DE3-AC1F-D9C48CA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1EC-DE58-4AB0-A661-EE70373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9A59-5A57-4896-8787-D5041A7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A2D-CC1C-4EB3-9B71-6616EBF2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DC76-CCBB-4D5F-A2CD-2852281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DEBE-36FD-4F94-9E49-107B8EB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79B8-91AC-42DE-8BAC-4E78CD0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CE20-8513-4702-9C05-793D50C8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D2F-BAF8-4F2D-993D-B55DED15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814-4B03-4E49-9EDF-9DA21D6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C25-2F81-4FCA-8DFB-4A8214B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6E7-2969-4A8E-AA15-D2E29F7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511-0B14-4861-A4D7-26F5AA1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71E-85E0-4660-B9FC-287A4D0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22A-77C9-4867-95EA-1EB68EC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4AE-F1B2-43A5-A8FF-4D9F1D5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935-BB19-4779-AA25-BE2CEB517D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CE5-3FC9-45D6-B07D-9B39A11DBC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20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91456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oxcar Children Book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-Z Mysterie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Dogs Allow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metr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 sentenc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AT te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logy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i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ying to make the bulb light u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nomic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ograph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Weird Wake U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440" y="23623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ing the ISAT t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ing the MAP test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ting ready for the IS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1f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multiplication by practicing it a lot mor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spelling by studying it a lot mo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get better at reading by reading a lot mo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3-18T18:19:02Z</dcterms:modified>
  <cp:revision>32</cp:revision>
  <dc:subject/>
  <dc:title>Welcome Mom and Dad!</dc:title>
</cp:coreProperties>
</file>